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4CF-1530-4264-9E70-B4424020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2AA4-521F-4EEA-950F-006DEE44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9C95-D9CF-4341-A60C-F0C02F07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45F-C764-4CCD-851D-9A3CA3E2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E49E-4C19-4E41-B876-8C4D5757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EA7E-57AF-4577-9489-507B5896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F884-2B4C-4545-B212-3F101932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000-A23A-4509-9962-A6E393FE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2458-3A87-4F01-A98C-1EE4EBC8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9E4F-A691-4CA6-88A2-8ABA4DA9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4FD3-5A25-4B78-B793-A24CE8EA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B46-20D8-4825-BD34-883449A9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18B5-FAD0-47A9-A58E-1E1EAECD9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1976-4251-4D3C-9B6F-BBAC94FE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3B5-143D-468F-A75F-FB5FDB8C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8568-A6B2-4C31-B6C7-226D68567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087-3C4E-4D4A-AA48-28C40F19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FF76-4D3F-44B0-8C74-137863FC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2CA-6650-4A09-B542-C2988BB6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D39-0C66-480D-885B-409B9C1E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378-4516-47E4-9568-7658936B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67B-93FF-4998-B9F7-1F238B0E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B0C-92B4-4F3B-A033-0C0F402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AC2-4D96-4B71-9886-47331FF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E15-8C9B-46C4-AD20-8FAB657A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D9B-ED62-4599-9529-168DD289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FAA-6A17-4A72-B66D-91EC6A1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3F4-6E83-4D70-A023-6E05082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1C6-BB70-4AC3-B4BD-B5C0D2B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A1B-85CD-4D18-9DDC-F7E054F0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3FB-75BB-4C81-9887-2F44F93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506-E625-447E-BBCE-1DB7DBA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93F-E13A-4EC8-AF7A-53D4AD71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EC48-6D32-4EA7-B9E6-0E1D3A5D19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1773360"/>
            <a:ext cx="504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9280" y="1773360"/>
            <a:ext cx="8496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25.8 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EDIA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18cm, 118cm, 120cm, 132cm, and 141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EDIA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18cm, 118cm,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120c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132cm, and 141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is is the MEDI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Line 4"/>
          <p:cNvSpPr/>
          <p:nvPr/>
        </p:nvSpPr>
        <p:spPr>
          <a:xfrm flipV="1">
            <a:off x="3059280" y="3789000"/>
            <a:ext cx="7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OD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18c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120cm, and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ODE?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9280" y="1773360"/>
            <a:ext cx="8496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79280" y="1773360"/>
            <a:ext cx="8496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ggest = 141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llest =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1773360"/>
            <a:ext cx="8496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41 and 118 are ______ apar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9280" y="1773360"/>
            <a:ext cx="8496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41 and 118 are 141 – 118 apar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79280" y="1773360"/>
            <a:ext cx="8496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41 and 118 ar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par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1773360"/>
            <a:ext cx="8496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EA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9280" y="1773360"/>
            <a:ext cx="849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32 + 141 + 118 + 120 +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76360" y="5516640"/>
            <a:ext cx="446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1773360"/>
            <a:ext cx="849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 132 + 141 + 118 + 120 +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476360" y="5516640"/>
            <a:ext cx="446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79280" y="1773360"/>
            <a:ext cx="849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62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908000" y="5516640"/>
            <a:ext cx="93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1:43:10Z</dcterms:created>
  <dc:creator>Manager</dc:creator>
  <dc:description/>
  <dc:language>en-US</dc:language>
  <cp:lastModifiedBy>staff</cp:lastModifiedBy>
  <dcterms:modified xsi:type="dcterms:W3CDTF">2012-07-16T02:35:22Z</dcterms:modified>
  <cp:revision>4</cp:revision>
  <dc:subject/>
  <dc:title>Slide 1</dc:title>
</cp:coreProperties>
</file>